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2825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42C-1E20-4097-9DED-C361250D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016E-5A3B-4D84-8FE6-6F7129B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B5A9-DED0-4260-9A5E-54EA53F28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8BDB-0F8D-471A-BD14-93DE8878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B5BA-52E3-45D5-AB00-1253461B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CE2F-87B9-4E90-8856-26F84A90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827-3639-453B-AEDD-3E44EED8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D251-7260-4F8B-9DE9-8F190654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109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89D-32ED-43D2-B1EC-C9474B45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E6A-168C-452E-9556-6A274CA4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2E8A-5DEF-497E-A003-3D6542E7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F81C-1F8F-425A-ACCB-93574FC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10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rmAutofit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7640" indent="-247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198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97160" indent="-200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95320" indent="-1998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6360"/>
            <a:ext cx="206352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6360"/>
            <a:ext cx="313704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5600" y="6246360"/>
            <a:ext cx="2063880" cy="460440"/>
          </a:xfrm>
          <a:prstGeom prst="rect">
            <a:avLst/>
          </a:prstGeom>
          <a:noFill/>
          <a:ln w="0">
            <a:noFill/>
          </a:ln>
        </p:spPr>
        <p:txBody>
          <a:bodyPr lIns="79920" rIns="79920" tIns="39960" bIns="39960" anchor="t">
            <a:noAutofit/>
          </a:bodyPr>
          <a:lstStyle>
            <a:lvl1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fld id="{244D2743-2F7F-4A1F-BD11-C7816A201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0"/>
            <a:ext cx="8416800" cy="71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79920" rIns="79920" tIns="39960" bIns="39960" anchor="ctr">
            <a:noAutofit/>
          </a:bodyPr>
          <a:p>
            <a:pPr indent="0" algn="ctr">
              <a:buNone/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Bank and Trust Company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ius Baer Trust Company (Cayman) Ltd.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GANISATIONAL CHART as of Nov 1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54120" y="3048120"/>
          <a:ext cx="829152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4120" y="3048120"/>
                    <a:ext cx="829152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90440" y="857160"/>
            <a:ext cx="15858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L. Lowell, Jr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8920" y="857160"/>
            <a:ext cx="1586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B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xecutive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uko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89320" y="857160"/>
            <a:ext cx="1587600" cy="11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Board of Directo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, Chairm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les Farrington, M.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67360" y="785880"/>
            <a:ext cx="13334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Trus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. Buck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. Humphrey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3160" y="785880"/>
            <a:ext cx="196884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JBT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Private Label Funds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. Spilk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Farring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. Voge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3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Nath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00480" y="6000840"/>
            <a:ext cx="374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* A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# B Signatu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4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@ Member Local Management Committe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58920" y="2428920"/>
            <a:ext cx="14590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. Knabenha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TRA-AL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1440" y="2428920"/>
            <a:ext cx="139680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. Spinnl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IN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37440" y="2428920"/>
            <a:ext cx="1268280" cy="42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. de Kost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L: PR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27880" y="6286680"/>
            <a:ext cx="15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798480"/>
                <a:tab algn="l" pos="1596960"/>
                <a:tab algn="l" pos="2395440"/>
                <a:tab algn="l" pos="3193920"/>
                <a:tab algn="l" pos="3992400"/>
                <a:tab algn="l" pos="4791240"/>
                <a:tab algn="l" pos="5589720"/>
                <a:tab algn="l" pos="6388200"/>
                <a:tab algn="l" pos="7186680"/>
                <a:tab algn="l" pos="7985160"/>
                <a:tab algn="l" pos="8783640"/>
                <a:tab algn="l" pos="9582120"/>
                <a:tab algn="l" pos="10380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 Count:2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7T14:30:21Z</dcterms:created>
  <dc:creator>J.B.B.T</dc:creator>
  <dc:description/>
  <dc:language>en-US</dc:language>
  <cp:lastModifiedBy>Rudolf</cp:lastModifiedBy>
  <cp:lastPrinted>2000-10-27T14:38:22Z</cp:lastPrinted>
  <dcterms:modified xsi:type="dcterms:W3CDTF">2004-01-28T20:47:55Z</dcterms:modified>
  <cp:revision>4</cp:revision>
  <dc:subject/>
  <dc:title>Julius Baer Bank and Trust Company Ltd. Julius Baer Trust Company (Cayman) Ltd. ORGANISATIONAL CHART as of Oct 1, 2000</dc:title>
</cp:coreProperties>
</file>